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232-99F3-41DC-BFBF-F6FD41B1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50D-0139-4CA6-8FD4-5F88F3A5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1F7-418B-4512-B505-4C467DE8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DE6-C833-4971-9977-F41AF23D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9CC-6AB3-47D1-A446-DB5F0849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340-54C5-45C5-A16E-A437A50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E60C-B692-47E4-B0CE-FA3B64B7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1562-3FE5-469B-B580-95B8D9B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E365-D703-40A7-9E4E-DB31C935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A60C-5954-4274-A800-5F12F63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F6F-9A08-4F61-8A8A-9EC836A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B1F-9177-4752-B616-1F324FF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821-008B-4A1B-838E-C4468AF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C9A-136A-429D-B172-07E8043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201-D233-41AF-BD9A-9C0340E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A763-A183-469B-AEA0-7FADC43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732B-26F4-45A3-B9BE-8A93D462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80BB-A0E3-4298-B5C8-C8D84E9B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AFF0-B9CC-49A1-BF7D-AB30AB2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229C-42BC-49C7-A287-98337D2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63E1-4AB4-4449-B494-0D4F5E1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003A-D32A-4AA9-9052-6D9591B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FAB-7D16-4B25-9DB0-6B5433B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D04F-1136-4775-8FD2-B3BAD639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B683-7ABD-4824-8F3F-87B2FD0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B6B0-5F9C-4C16-8CF6-71170FF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67E7-C317-4888-9F03-A358F42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5FF5-E097-44AF-B9EA-9777ACB9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2281-21FC-48C5-A7C3-FBA12A2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1478-748F-4C35-B647-A7751766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7070-4648-497E-A17C-50D760C2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0CC8-2235-46C1-8697-5435CB5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7969-287D-475D-B33E-B2B3F0AE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0A3-CB46-42B6-900B-1552657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4005-8A48-4DFC-92D1-44C0D3D5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22DD-ABAD-49B2-B2D2-CB8D83F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4D3E-62AF-44FC-A8E9-5404A87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76B6-4033-425B-9941-6EBA20F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B488-8B2C-4CBE-8B3D-3EF20C3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19A2-B67C-4C8A-BE1A-AC55243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5BC9-B9F5-4C0A-B1D2-4C781CA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D73E-621A-4FE3-8EB8-3EC2B570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4B9BB-E3E8-47D9-8A95-5E9268BF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00470-DB8B-4071-9862-82AAE5E5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B21-7352-4558-9145-E421F74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0C0A-6700-48C8-8C15-B1C9364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F56C-E9F6-40D1-B86E-98A4A98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A483-ADAC-485A-A78D-B8C121CB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0091-D2D4-4121-B6E6-10B54914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E331-B856-49C3-AB7B-F27174B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844A-4767-427D-BDBB-CF71795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129D-832C-4736-BD2A-9098C31D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80AD-A797-4875-8BAF-376FF90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3DDB-34DB-48D1-AD94-975E63B5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55926-473E-400F-BB5E-BE98CAD2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62E-966B-4CDD-8A17-D310FE3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7554-3047-4337-A554-D5FF2143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B019-2758-41F1-A683-B7408E10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A194-0C0E-4ED8-B46F-49FCFF88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C6D0-3694-4666-8BFC-31D88B27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C39B-6727-4EE6-98D8-6B07B751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FC5C-1205-431E-BFDC-3E178F3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5013-8230-42DA-B0B1-EF7486AE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55E8-EBDB-4809-8C16-587C9E1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745B-A641-430A-808B-A95C5A4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FA7BA-6FEE-474F-B6D0-0558F0C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E98-02F5-46FD-B024-879EE86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E80C-A5CE-44E8-A078-84A8EB5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6060F-3E3B-4ECC-87F6-DE8E9156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FB33-C0CE-4708-ACF5-FA1E9554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6400-D1B8-404C-9451-1C7CB870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D1C6-5CAC-4A68-A732-9DC62009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345A-AB0D-4362-9462-C994E878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EEA3-C88F-4E89-ADCA-731C2A6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909D-4340-4C2D-ABBA-52A2072D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65BB-23D3-43CE-B0BF-3E1B6810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4F018-A2F8-42D7-B861-07D7B1D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22A-74AC-4E95-85D2-ECFEBBE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FBD4-4477-4CA6-9318-79E7122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EF2B-EAEA-4C6A-95D0-7F986D9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30590-AAF7-4957-AF4D-1F182119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D54F-B425-4974-9493-004FE9F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5693-94FE-48D3-8465-5AC7A37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B7EA-EDBE-4181-B1F1-C0F3E6F0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ED2DB-5FF0-4541-A79E-46158F48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233A-A68D-4430-BBAD-C695190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4E754-6D1C-4C40-BFB1-F31DE703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51CB-8A3E-493A-A6C0-6CEF9CE1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941-89A0-44FA-A60E-005573B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591B-173D-4BDF-9B03-F937B2B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0923C-7EE1-4780-8A97-FF5E250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DBC6-378F-4ABE-A04E-8373E5F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B53B1-BE93-41D2-9D48-3DE6C53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06DB0-15A2-4FB0-B167-2FD5544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19F4-3F7D-43A0-9A70-41061891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20F7-902A-4E4F-A0CD-10393A12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Derékszögű háromszög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Derékszögű háromszög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Egyenes összekötő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218A-3039-402A-8DE1-F155AE3B4C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erékszögű háromszög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Csoportba foglalás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Szabadkézi sokszög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Szabadkézi sokszög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Szabadkézi sokszög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Szabadkézi sokszög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Egyenes összekötő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7868-B108-49BB-9035-68D4C8D2B2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Derékszögű háromszög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Derékszögű háromszög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Egyenes összekötő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Sávnyíl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Sávnyíl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8C1-057A-4F29-97F8-5DDD56A233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Derékszögű háromszög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Derékszögű háromszög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Egyenes összekötő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8B28-ABEC-4F98-A331-0BAFF0801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3A9E-131D-4296-BCF6-981C9CC610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zabadkézi sokszög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Szabadkézi sokszög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Derékszögű háromszög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Derékszögű háromszög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Egyenes összekötő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C19-8BEC-401E-A6CD-3EDF7D1FC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4A7B-B6E5-4B80-93EB-6A5651E2AF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zabadkézi sokszög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Szabadkézi sokszög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Derékszögű háromszög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Derékszögű háromszög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Egyenes összekötő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Sávnyíl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Sávnyíl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71FC-021B-4FBE-81C8-A20611142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21.png"/><Relationship Id="rId4" Type="http://schemas.openxmlformats.org/officeDocument/2006/relationships/image" Target="../media/image7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50920" y="5373360"/>
            <a:ext cx="4573440" cy="134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óth Judi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Lucida Sans Unicode"/>
              </a:rPr>
              <a:t>Kerékpáros Magyarország Szövetség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Kép 3" descr=""/>
          <p:cNvPicPr/>
          <p:nvPr/>
        </p:nvPicPr>
        <p:blipFill>
          <a:blip r:embed="rId1"/>
          <a:stretch/>
        </p:blipFill>
        <p:spPr>
          <a:xfrm>
            <a:off x="7885080" y="1429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372" name="Kép 4" descr=""/>
          <p:cNvPicPr/>
          <p:nvPr/>
        </p:nvPicPr>
        <p:blipFill>
          <a:blip r:embed="rId2"/>
          <a:stretch/>
        </p:blipFill>
        <p:spPr>
          <a:xfrm>
            <a:off x="5545080" y="1429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373" name="Kép 5" descr=""/>
          <p:cNvPicPr/>
          <p:nvPr/>
        </p:nvPicPr>
        <p:blipFill>
          <a:blip r:embed="rId3"/>
          <a:stretch/>
        </p:blipFill>
        <p:spPr>
          <a:xfrm>
            <a:off x="6373800" y="142920"/>
            <a:ext cx="1511280" cy="1079280"/>
          </a:xfrm>
          <a:prstGeom prst="rect">
            <a:avLst/>
          </a:prstGeom>
          <a:ln w="0">
            <a:noFill/>
          </a:ln>
        </p:spPr>
      </p:pic>
      <p:sp>
        <p:nvSpPr>
          <p:cNvPr id="374" name="Alcím 2"/>
          <p:cNvSpPr/>
          <p:nvPr/>
        </p:nvSpPr>
        <p:spPr>
          <a:xfrm>
            <a:off x="838080" y="376380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69676d"/>
                </a:solidFill>
                <a:latin typeface="Lucida Sans Unicode"/>
              </a:rPr>
              <a:t>2012. évi pályázat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Cím 8" descr=""/>
          <p:cNvPicPr/>
          <p:nvPr/>
        </p:nvPicPr>
        <p:blipFill>
          <a:blip r:embed="rId4"/>
          <a:stretch/>
        </p:blipFill>
        <p:spPr>
          <a:xfrm>
            <a:off x="500040" y="1755720"/>
            <a:ext cx="8150400" cy="2163960"/>
          </a:xfrm>
          <a:prstGeom prst="rect">
            <a:avLst/>
          </a:prstGeom>
          <a:ln w="0">
            <a:noFill/>
          </a:ln>
        </p:spPr>
      </p:pic>
      <p:pic>
        <p:nvPicPr>
          <p:cNvPr id="376" name="Kép 1" descr=""/>
          <p:cNvPicPr/>
          <p:nvPr/>
        </p:nvPicPr>
        <p:blipFill>
          <a:blip r:embed="rId5"/>
          <a:stretch/>
        </p:blipFill>
        <p:spPr>
          <a:xfrm>
            <a:off x="4179960" y="212760"/>
            <a:ext cx="1255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77156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Az elmúlt években is pályázta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Település: 2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Munkahely: 1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A pályázatban új jelentkezőnek számítanak, mert új a bírálati rendsz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1" name="Kép 3" descr=""/>
          <p:cNvPicPr/>
          <p:nvPr/>
        </p:nvPicPr>
        <p:blipFill>
          <a:blip r:embed="rId2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  <p:pic>
        <p:nvPicPr>
          <p:cNvPr id="422" name="Kép 3" descr=""/>
          <p:cNvPicPr/>
          <p:nvPr/>
        </p:nvPicPr>
        <p:blipFill>
          <a:blip r:embed="rId3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77156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Lucida Sans Unicode"/>
              </a:rPr>
              <a:t>Újdonságok 2012-b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Objektívebb bírálati szempontok, számszerűsíthető válaszadá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Turisztikai szempontrendszer felértékelődé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Helyszíni ellenőrzés</a:t>
            </a:r>
            <a:br>
              <a:rPr sz="2700"/>
            </a:b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6 település, 1 munkahe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5" name="Kép 3" descr=""/>
          <p:cNvPicPr/>
          <p:nvPr/>
        </p:nvPicPr>
        <p:blipFill>
          <a:blip r:embed="rId2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  <p:pic>
        <p:nvPicPr>
          <p:cNvPr id="426" name="Kép 3" descr=""/>
          <p:cNvPicPr/>
          <p:nvPr/>
        </p:nvPicPr>
        <p:blipFill>
          <a:blip r:embed="rId3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Lucida Sans Unicode"/>
              </a:rPr>
              <a:t>Kampány ideje alatt FAQ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Tényleg Újra kell-e pályázni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Újra be kell e adni a tavalyi, képek, dokumentumok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Papíron is elég vagy lehet online 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Kérdések adatbevitelre vonatkozó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60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60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Hiánypótlá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60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Település: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16 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960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Munkahely: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23 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9" name="Kép 3" descr=""/>
          <p:cNvPicPr/>
          <p:nvPr/>
        </p:nvPicPr>
        <p:blipFill>
          <a:blip r:embed="rId2"/>
          <a:stretch/>
        </p:blipFill>
        <p:spPr>
          <a:xfrm>
            <a:off x="7885080" y="1429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430" name="Kép 3" descr=""/>
          <p:cNvPicPr/>
          <p:nvPr/>
        </p:nvPicPr>
        <p:blipFill>
          <a:blip r:embed="rId3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431" name="Kép 5" descr=""/>
          <p:cNvPicPr/>
          <p:nvPr/>
        </p:nvPicPr>
        <p:blipFill>
          <a:blip r:embed="rId4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  <p:sp>
        <p:nvSpPr>
          <p:cNvPr id="432" name="Jobbra nyíl 6"/>
          <p:cNvSpPr/>
          <p:nvPr/>
        </p:nvSpPr>
        <p:spPr>
          <a:xfrm>
            <a:off x="3367080" y="5257800"/>
            <a:ext cx="714240" cy="149400"/>
          </a:xfrm>
          <a:prstGeom prst="rightArrow">
            <a:avLst>
              <a:gd name="adj1" fmla="val 50000"/>
              <a:gd name="adj2" fmla="val 49932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Jobbra nyíl 7"/>
          <p:cNvSpPr/>
          <p:nvPr/>
        </p:nvSpPr>
        <p:spPr>
          <a:xfrm>
            <a:off x="3367080" y="5765760"/>
            <a:ext cx="714240" cy="149400"/>
          </a:xfrm>
          <a:prstGeom prst="rightArrow">
            <a:avLst>
              <a:gd name="adj1" fmla="val 50000"/>
              <a:gd name="adj2" fmla="val 49932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ím 1" descr=""/>
          <p:cNvPicPr/>
          <p:nvPr/>
        </p:nvPicPr>
        <p:blipFill>
          <a:blip r:embed="rId1"/>
          <a:stretch/>
        </p:blipFill>
        <p:spPr>
          <a:xfrm>
            <a:off x="249120" y="2328840"/>
            <a:ext cx="86457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2205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Együttműködés az NFM és KMSZ között 2014. február 28-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szervezé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lebonyolítá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Kép 3" descr=""/>
          <p:cNvPicPr/>
          <p:nvPr/>
        </p:nvPicPr>
        <p:blipFill>
          <a:blip r:embed="rId2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380" name="Kép 4" descr=""/>
          <p:cNvPicPr/>
          <p:nvPr/>
        </p:nvPicPr>
        <p:blipFill>
          <a:blip r:embed="rId3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77156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2012. július 1-től a pályázati anyagok letölthető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beérkezési határidő: 2012. szeptember 28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hiánypótlás: 2012. októ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helyszíni ellenőrzés: 2012. nov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bírálat: december 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eredményhirdetés, díjak kiosztá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Kép 3" descr=""/>
          <p:cNvPicPr/>
          <p:nvPr/>
        </p:nvPicPr>
        <p:blipFill>
          <a:blip r:embed="rId2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384" name="Kép 4" descr=""/>
          <p:cNvPicPr/>
          <p:nvPr/>
        </p:nvPicPr>
        <p:blipFill>
          <a:blip r:embed="rId3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146240" y="1806480"/>
            <a:ext cx="6851520" cy="32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Kerékpárosbarát Munkahely</a:t>
            </a:r>
            <a:br>
              <a:rPr sz="2700"/>
            </a:b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2012: 38 pályázat 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2.1 –szeres növekedés 2011-hez képest (1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Kerékpárosbarát Település </a:t>
            </a:r>
            <a:br>
              <a:rPr sz="2700"/>
            </a:b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2012: 25 pályázat 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hu-HU" sz="2700" spc="-1" strike="noStrike">
                <a:solidFill>
                  <a:srgbClr val="000000"/>
                </a:solidFill>
                <a:latin typeface="Lucida Sans Unicode"/>
              </a:rPr>
              <a:t>2,3 szeres növekedés 2011-hez képest (11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Kép 3" descr=""/>
          <p:cNvPicPr/>
          <p:nvPr/>
        </p:nvPicPr>
        <p:blipFill>
          <a:blip r:embed="rId2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Jobbra nyíl 4"/>
          <p:cNvSpPr/>
          <p:nvPr/>
        </p:nvSpPr>
        <p:spPr>
          <a:xfrm>
            <a:off x="4822920" y="2401920"/>
            <a:ext cx="784080" cy="106200"/>
          </a:xfrm>
          <a:prstGeom prst="rightArrow">
            <a:avLst>
              <a:gd name="adj1" fmla="val 50000"/>
              <a:gd name="adj2" fmla="val 50075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Jobbra nyíl 6"/>
          <p:cNvSpPr/>
          <p:nvPr/>
        </p:nvSpPr>
        <p:spPr>
          <a:xfrm>
            <a:off x="4822920" y="4141800"/>
            <a:ext cx="784080" cy="10476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Kép 7" descr=""/>
          <p:cNvPicPr/>
          <p:nvPr/>
        </p:nvPicPr>
        <p:blipFill>
          <a:blip r:embed="rId3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Kép 3" descr=""/>
          <p:cNvPicPr/>
          <p:nvPr/>
        </p:nvPicPr>
        <p:blipFill>
          <a:blip r:embed="rId1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392" name="Cím 2" descr=""/>
          <p:cNvPicPr/>
          <p:nvPr/>
        </p:nvPicPr>
        <p:blipFill>
          <a:blip r:embed="rId2"/>
          <a:stretch/>
        </p:blipFill>
        <p:spPr>
          <a:xfrm>
            <a:off x="311040" y="36360"/>
            <a:ext cx="8515440" cy="1785960"/>
          </a:xfrm>
          <a:prstGeom prst="rect">
            <a:avLst/>
          </a:prstGeom>
          <a:ln w="0">
            <a:noFill/>
          </a:ln>
        </p:spPr>
      </p:pic>
      <p:pic>
        <p:nvPicPr>
          <p:cNvPr id="393" name="Diagram 12" descr=""/>
          <p:cNvPicPr/>
          <p:nvPr/>
        </p:nvPicPr>
        <p:blipFill>
          <a:blip r:embed="rId3"/>
          <a:stretch/>
        </p:blipFill>
        <p:spPr>
          <a:xfrm>
            <a:off x="1444680" y="1547640"/>
            <a:ext cx="6851520" cy="4121280"/>
          </a:xfrm>
          <a:prstGeom prst="rect">
            <a:avLst/>
          </a:prstGeom>
          <a:ln w="0">
            <a:noFill/>
          </a:ln>
        </p:spPr>
      </p:pic>
      <p:pic>
        <p:nvPicPr>
          <p:cNvPr id="394" name="Kép 4" descr=""/>
          <p:cNvPicPr/>
          <p:nvPr/>
        </p:nvPicPr>
        <p:blipFill>
          <a:blip r:embed="rId4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Pályázati kategóriá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A. megyei jogú város, fővárosi kerüle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B. váro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C. nagyközség, közsé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Lucida Sans Unicode"/>
              </a:rPr>
              <a:t>Összesen 25 pályázó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Kép 3" descr=""/>
          <p:cNvPicPr/>
          <p:nvPr/>
        </p:nvPicPr>
        <p:blipFill>
          <a:blip r:embed="rId1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397" name="Kép 4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28720" cy="1081080"/>
          </a:xfrm>
          <a:prstGeom prst="rect">
            <a:avLst/>
          </a:prstGeom>
          <a:ln w="0">
            <a:noFill/>
          </a:ln>
        </p:spPr>
      </p:pic>
      <p:pic>
        <p:nvPicPr>
          <p:cNvPr id="398" name="Diagram 5" descr=""/>
          <p:cNvPicPr/>
          <p:nvPr/>
        </p:nvPicPr>
        <p:blipFill>
          <a:blip r:embed="rId3"/>
          <a:stretch/>
        </p:blipFill>
        <p:spPr>
          <a:xfrm>
            <a:off x="4389480" y="2846520"/>
            <a:ext cx="4583160" cy="3036600"/>
          </a:xfrm>
          <a:prstGeom prst="rect">
            <a:avLst/>
          </a:prstGeom>
          <a:ln w="0">
            <a:noFill/>
          </a:ln>
        </p:spPr>
      </p:pic>
      <p:sp>
        <p:nvSpPr>
          <p:cNvPr id="399" name="Jobbra nyíl 6"/>
          <p:cNvSpPr/>
          <p:nvPr/>
        </p:nvSpPr>
        <p:spPr>
          <a:xfrm>
            <a:off x="3419640" y="3998880"/>
            <a:ext cx="785520" cy="301680"/>
          </a:xfrm>
          <a:prstGeom prst="rightArrow">
            <a:avLst>
              <a:gd name="adj1" fmla="val 50000"/>
              <a:gd name="adj2" fmla="val 49967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Cím 7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01" name="Kép 8" descr=""/>
          <p:cNvPicPr/>
          <p:nvPr/>
        </p:nvPicPr>
        <p:blipFill>
          <a:blip r:embed="rId5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a kerékpáros stratégia (a kerékpározás szerepe a fejlesztési koncepciókban, tervekben, népszerűsítő akciókban, önkormányzati szervezetb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a kerékpáros infrastruktúra és szolgáltatások minősége, karbantartá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szemléletformálás, a kerékpározás népszerűsítése, promóciója és oktatá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a települések elszántsága, hozzáállása a kerékpározáshoz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kerékpáros turisztikai intézkedése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Kép 3" descr=""/>
          <p:cNvPicPr/>
          <p:nvPr/>
        </p:nvPicPr>
        <p:blipFill>
          <a:blip r:embed="rId2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405" name="Kép 4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28720" cy="1081080"/>
          </a:xfrm>
          <a:prstGeom prst="rect">
            <a:avLst/>
          </a:prstGeom>
          <a:ln w="0">
            <a:noFill/>
          </a:ln>
        </p:spPr>
      </p:pic>
      <p:pic>
        <p:nvPicPr>
          <p:cNvPr id="406" name="Kép 5" descr=""/>
          <p:cNvPicPr/>
          <p:nvPr/>
        </p:nvPicPr>
        <p:blipFill>
          <a:blip r:embed="rId4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341000"/>
            <a:ext cx="822960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Pályázati kategóriá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A, mikro- és kisvállal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B, középvállal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C, nagyvállal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Lucida Sans Unicode"/>
              </a:rPr>
              <a:t>D, közintézmény, non-profit szervez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Lucida Sans Unicode"/>
              </a:rPr>
              <a:t>Összesen 38 pályázó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Cím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9" name="Kép 3" descr=""/>
          <p:cNvPicPr/>
          <p:nvPr/>
        </p:nvPicPr>
        <p:blipFill>
          <a:blip r:embed="rId2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410" name="Diagram 4" descr=""/>
          <p:cNvPicPr/>
          <p:nvPr/>
        </p:nvPicPr>
        <p:blipFill>
          <a:blip r:embed="rId3"/>
          <a:stretch/>
        </p:blipFill>
        <p:spPr>
          <a:xfrm>
            <a:off x="4133880" y="3133800"/>
            <a:ext cx="4838760" cy="2676600"/>
          </a:xfrm>
          <a:prstGeom prst="rect">
            <a:avLst/>
          </a:prstGeom>
          <a:ln w="0">
            <a:noFill/>
          </a:ln>
        </p:spPr>
      </p:pic>
      <p:sp>
        <p:nvSpPr>
          <p:cNvPr id="411" name="Jobbra nyíl 5"/>
          <p:cNvSpPr/>
          <p:nvPr/>
        </p:nvSpPr>
        <p:spPr>
          <a:xfrm>
            <a:off x="3386160" y="4237200"/>
            <a:ext cx="714240" cy="29052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695814"/>
              </a:gs>
              <a:gs pos="100000">
                <a:srgbClr val="eacc59"/>
              </a:gs>
            </a:gsLst>
            <a:lin ang="16200000"/>
          </a:gradFill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Kép 3" descr=""/>
          <p:cNvPicPr/>
          <p:nvPr/>
        </p:nvPicPr>
        <p:blipFill>
          <a:blip r:embed="rId4"/>
          <a:stretch/>
        </p:blipFill>
        <p:spPr>
          <a:xfrm>
            <a:off x="7885080" y="1429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413" name="Kép 7" descr=""/>
          <p:cNvPicPr/>
          <p:nvPr/>
        </p:nvPicPr>
        <p:blipFill>
          <a:blip r:embed="rId5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84200" y="138744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Lucida Sans Unicode"/>
              </a:rPr>
              <a:t>a munkahelyi kerékpáros infrastruktúra állapo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Lucida Sans Unicode"/>
              </a:rPr>
              <a:t>a kerékpározás ösztönzése, segítése a munkáltató részérő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Lucida Sans Unicode"/>
              </a:rPr>
              <a:t>kerékpározás kommunikációja a munkahelyen és azon kívül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Lucida Sans Unicode"/>
              </a:rPr>
              <a:t>a vezetők példamutatása, és odafigyelése kerékpárral közlekedő alkalmazottaikr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Cím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16" name="Kép 3" descr=""/>
          <p:cNvPicPr/>
          <p:nvPr/>
        </p:nvPicPr>
        <p:blipFill>
          <a:blip r:embed="rId2"/>
          <a:stretch/>
        </p:blipFill>
        <p:spPr>
          <a:xfrm>
            <a:off x="7885080" y="1429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417" name="Kép 3" descr=""/>
          <p:cNvPicPr/>
          <p:nvPr/>
        </p:nvPicPr>
        <p:blipFill>
          <a:blip r:embed="rId3"/>
          <a:stretch/>
        </p:blipFill>
        <p:spPr>
          <a:xfrm>
            <a:off x="7454880" y="5734080"/>
            <a:ext cx="1509840" cy="1079640"/>
          </a:xfrm>
          <a:prstGeom prst="rect">
            <a:avLst/>
          </a:prstGeom>
          <a:ln w="0">
            <a:noFill/>
          </a:ln>
        </p:spPr>
      </p:pic>
      <p:pic>
        <p:nvPicPr>
          <p:cNvPr id="418" name="Kép 5" descr=""/>
          <p:cNvPicPr/>
          <p:nvPr/>
        </p:nvPicPr>
        <p:blipFill>
          <a:blip r:embed="rId4"/>
          <a:stretch/>
        </p:blipFill>
        <p:spPr>
          <a:xfrm>
            <a:off x="6356520" y="5916600"/>
            <a:ext cx="95220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20:00Z</dcterms:created>
  <dc:creator>Hostyánszki László</dc:creator>
  <dc:description/>
  <dc:language>en-US</dc:language>
  <cp:lastModifiedBy>Tóth Judit</cp:lastModifiedBy>
  <dcterms:modified xsi:type="dcterms:W3CDTF">2012-12-11T08:36:13Z</dcterms:modified>
  <cp:revision>35</cp:revision>
  <dc:subject/>
  <dc:title>Kerékpárosbarát Település Kerékpárosbarát Önkormányzat</dc:title>
</cp:coreProperties>
</file>