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9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10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11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7A459-923C-4B38-82CE-A2BBC2284C7A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E6A0-A7E4-472A-8854-1BC54B67E0C6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398C9-E7CA-450D-8922-B821F8B98CE3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04F5A-E8F3-4601-9612-7D4D785FDE7D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4414-5A9A-490C-BBC4-5406FA4BE05F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6E9BF-DD0D-4562-A24B-AA9DD27566FB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3182-DD80-47AE-822B-A1999962957A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E4D8-BA83-4104-9CD6-AD90ABE00F76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Dia számának hely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1741E-899B-40E6-8DF9-3890EA02BA01}" type="slidenum">
              <a:rPr b="0" lang="hu-H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4532B-24F9-4823-BAF4-1906F2B3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10482-CA41-4155-8409-3C9AAF98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0FC13-952B-4B49-81FA-B34CEE4C4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54632-92F1-4693-9BF9-A48530B9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EFA7BC-E6D4-432A-B669-8083F164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15C521-29E6-4329-B566-9464E1214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B2F76-6248-4D25-905E-F0F61FE4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0FB258-5B68-4D83-AEBC-7F1EE24E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D58CB-7165-429C-9DC8-2CC921507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1ACA2E-DF3C-435D-BD2F-05AA20E9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7ADD74-3299-4E7A-A40A-4A798C0C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FAC671-6905-4994-9095-2D989A297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88EADC-4AB5-4994-B0DE-D404FC5D7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4901B1-9F36-4FFE-8891-9B9D19E7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F134EC-BEFA-4008-A076-2B157BD1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605089-8F11-41DA-9ADF-2BB9A584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4788E3-5CA4-4EFC-A86E-59C9D64BF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0AC16-FB03-4151-85DF-BD1AE2E4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3EC949-7C39-4AEE-9D07-223274DE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8E019B-E936-4674-886E-1EFC1117D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D2758-D3A4-47C7-8EC9-3F57AF0E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EA4C8E-591F-4886-9862-B09D6359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775937-2AFD-4AFC-82DB-EC0F4199E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4A779E4-DBC7-46AA-8B7F-708A2BEA1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C6B2-81A5-4ADF-9AD3-B9A15AA54073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43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4E1D-6341-43EB-A3A6-898E560CCB32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83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B164-0235-46DF-81F5-9ED092E0016D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23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EC0B-EA3B-453E-9052-7B2F25838ADE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5"/>
          </p:nvPr>
        </p:nvSpPr>
        <p:spPr>
          <a:xfrm>
            <a:off x="6740640" y="60897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D925-D809-4D0C-8B5E-9D2572B33F4A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bg_2_beloldal.jpg"/>
          <p:cNvPicPr/>
          <p:nvPr/>
        </p:nvPicPr>
        <p:blipFill>
          <a:blip r:embed="rId2"/>
          <a:stretch/>
        </p:blipFill>
        <p:spPr>
          <a:xfrm>
            <a:off x="1440" y="14400"/>
            <a:ext cx="9141120" cy="6829200"/>
          </a:xfrm>
          <a:prstGeom prst="rect">
            <a:avLst/>
          </a:prstGeom>
          <a:ln w="0">
            <a:noFill/>
          </a:ln>
        </p:spPr>
      </p:pic>
      <p:sp>
        <p:nvSpPr>
          <p:cNvPr id="166" name="Slide Number Placeholder 5"/>
          <p:cNvSpPr/>
          <p:nvPr/>
        </p:nvSpPr>
        <p:spPr>
          <a:xfrm>
            <a:off x="6740640" y="6421320"/>
            <a:ext cx="2133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7C6C6-2EB8-42ED-84A0-1B40DED2679A}" type="slidenum">
              <a:rPr b="0" lang="hu-HU" sz="1000" spc="-1" strike="noStrike">
                <a:solidFill>
                  <a:srgbClr val="a69765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5D370-983A-4B8B-AE52-342E838DFE17}" type="slidenum"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491920"/>
            <a:ext cx="806436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Tahoma"/>
              </a:rPr>
              <a:t>A levegőtisztaság-védelmi szabályozás felülvizsgálata, az Országos Légszennyezettség Mérőhálózat és laboratóriumi háttér továbbfejleszté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324000" y="508464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dr. Orbán Hunor</a:t>
            </a:r>
            <a:br>
              <a:rPr sz="1600"/>
            </a:br>
            <a:r>
              <a:rPr b="1" lang="hu-H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főosztályvezető-helyettes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örnyezetmegőrzési Főosztály</a:t>
            </a:r>
            <a:br>
              <a:rPr sz="1600"/>
            </a:b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Levegőminőség-védelmi és Szennyezés Ellenőrzési Osztály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28400" y="141264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EU: 2013. A levegő év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55280" y="2708280"/>
            <a:ext cx="762012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z EU levegővédelmi szabályozásának átfogó felülvizsgálata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2013. szeptember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 kibocsátás szabályozás szigorítása, kiterjesz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stüzelő berendezése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glévő gépjárműelőírások szigorítás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új közlekedési előírások (hajók, légi járművek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1628280"/>
            <a:ext cx="7721640" cy="6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Összegz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826560" y="2565360"/>
            <a:ext cx="7797960" cy="56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magyar levegővédelmi szabályozás is felülvizsgálatra szorul, mert az ország levegőminősége még nem megfelelő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akossági tevékenység és a közlekedés által okozott szennyezőanyag kibocsátások mérséklésére új előírásokat kell kidolgozni,bevezetni és érvényesíten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55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A levegőtisztaság-védelmi jogszabályok felülvizsgálatának főbb irány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9640" y="2852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IED – az ipari kibocsátásokról szóló 2010/75/EU irányelv átülte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11 jogszabályt éri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2013. első félé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mogriadó szabályozásának felülvizsgál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 Nemzeti Környezetügyi Intézettel, és a Szmogriadó Tárcaközi Bizott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PM10 Progr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610920" y="1268280"/>
            <a:ext cx="7846920" cy="482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Levegőminőségi szempontok integrálása más szakpolitikákb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Calibri"/>
              </a:rPr>
              <a:t>Energiapolitika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hatékonyság növelése, energiatakarékosság, megújuló energiaforrások használat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Calibri"/>
              </a:rPr>
              <a:t>Közlekedéspolitika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környezetkímélő közlekedési módok elterjesztése, fenntartható városi közlekedési rendszerek megvalósítás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Calibri"/>
              </a:rPr>
              <a:t>Agrárpolitika: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állattartás, műtrágya használat racionalizálás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26560" y="2276280"/>
            <a:ext cx="7705800" cy="28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Az Országos Légszennyezettségi Mérőhálózat és laboratóriumi háttér továbbfejleszté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84872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tratégiai cél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55640" y="2349360"/>
            <a:ext cx="7704000" cy="31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légszennyezettség kialakulásának megelőzése, a szennyezettség csökkentése (különösen a kisméretű szálló por vonatkozásáb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z ózonkárosító anyagok felhasználásának teljes visszaszorítása, a termékekben, berendezésekben lévő ózonkárosító anyagok légkörbe jutásának megakadályoz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5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Forráso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EU-s források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: Kohéziós Alap, Strukturális Alapok (ERFA, ESZ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EO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Svájci Hozzájárulá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vájci-Magyar Együttműködési Program végrehajtásáról szól, célja a kibővült Európai Unió gazdasági és társadalmi egyenlőtlenségeinek csökkentés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Svájc összesen kb. 31 milliárd Ft-tal támogatja Magyarországo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vájci hozzájárulás teljes összegéből (összes kedvezményezett állam) a környezetvédelem területére 34% jut a jelenlegi időszakban, e mellett számos más területen is találhatók környezetvédelmi vonatkozáso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Svájci támogatással az OLM Manuális Mérőhálózat (OLM MM) és a laboratóriumi háttér fejlesztése valósul meg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z OLM automata on-line monitoring mérőhálózat fejlesztése KEOP pályázat keretében történik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1116000" y="2060640"/>
            <a:ext cx="11430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66"/>
                </a:solidFill>
                <a:latin typeface="Comic Sans MS"/>
              </a:rPr>
              <a:t>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1116000" y="3284640"/>
            <a:ext cx="1257480" cy="411120"/>
          </a:xfrm>
          <a:prstGeom prst="rect">
            <a:avLst/>
          </a:prstGeom>
          <a:solidFill>
            <a:srgbClr val="000066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ffffff"/>
                </a:solidFill>
                <a:latin typeface="Comic Sans MS"/>
              </a:rPr>
              <a:t>OMS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395280" y="4508640"/>
            <a:ext cx="2514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66"/>
                </a:solidFill>
                <a:latin typeface="Comic Sans MS"/>
              </a:rPr>
              <a:t>7 Alköz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1692360" y="2492280"/>
            <a:ext cx="0" cy="80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6"/>
          <p:cNvSpPr/>
          <p:nvPr/>
        </p:nvSpPr>
        <p:spPr>
          <a:xfrm>
            <a:off x="1692360" y="378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2771640" y="213372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Calibri"/>
              </a:rPr>
              <a:t>Vidékfejlesztési Minisztérium</a:t>
            </a:r>
            <a:r>
              <a:rPr b="0" i="1" lang="hu-H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8"/>
          <p:cNvSpPr/>
          <p:nvPr/>
        </p:nvSpPr>
        <p:spPr>
          <a:xfrm>
            <a:off x="3419640" y="24210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800" spc="-1" strike="noStrike">
                <a:solidFill>
                  <a:srgbClr val="000000"/>
                </a:solidFill>
                <a:latin typeface="Calibri"/>
              </a:rPr>
              <a:t>Szakmai vezeté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s</a:t>
            </a:r>
            <a:r>
              <a:rPr b="0" lang="hu-H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9"/>
          <p:cNvSpPr/>
          <p:nvPr/>
        </p:nvSpPr>
        <p:spPr>
          <a:xfrm>
            <a:off x="2743200" y="2708280"/>
            <a:ext cx="640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66"/>
                </a:solidFill>
                <a:latin typeface="Calibri"/>
              </a:rPr>
              <a:t>Országos Meteorológiai Szolgál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0"/>
          <p:cNvSpPr/>
          <p:nvPr/>
        </p:nvSpPr>
        <p:spPr>
          <a:xfrm>
            <a:off x="2987640" y="2997360"/>
            <a:ext cx="585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66"/>
                </a:solidFill>
                <a:latin typeface="Calibri"/>
                <a:ea typeface="Times New Roman"/>
              </a:rPr>
              <a:t>Levegőtisztaság-védelmi Referencia központ</a:t>
            </a:r>
            <a:r>
              <a:rPr b="1" lang="hu-HU" sz="1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1"/>
          <p:cNvSpPr/>
          <p:nvPr/>
        </p:nvSpPr>
        <p:spPr>
          <a:xfrm>
            <a:off x="3564000" y="3213000"/>
            <a:ext cx="532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66"/>
                </a:solidFill>
                <a:latin typeface="Calibri"/>
              </a:rPr>
              <a:t>- Adatközpo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66"/>
                </a:solidFill>
                <a:latin typeface="Calibri"/>
              </a:rPr>
              <a:t>- Nemzeti Referencia Laboratóri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66"/>
                </a:solidFill>
                <a:latin typeface="Calibri"/>
              </a:rPr>
              <a:t>minőségbiztosítási feladat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66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66"/>
                </a:solidFill>
                <a:latin typeface="Calibri"/>
              </a:rPr>
              <a:t>mérések és eszközök harmonizáció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2"/>
          <p:cNvSpPr/>
          <p:nvPr/>
        </p:nvSpPr>
        <p:spPr>
          <a:xfrm>
            <a:off x="2987640" y="4437000"/>
            <a:ext cx="615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000" spc="-1" strike="noStrike">
                <a:solidFill>
                  <a:srgbClr val="000000"/>
                </a:solidFill>
                <a:latin typeface="Calibri"/>
              </a:rPr>
              <a:t>Környezetvédelmi, Természetvédelmi és Vízügyi Felügyelőségek</a:t>
            </a:r>
            <a:r>
              <a:rPr b="0" i="1" lang="hu-H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3"/>
          <p:cNvSpPr/>
          <p:nvPr/>
        </p:nvSpPr>
        <p:spPr>
          <a:xfrm>
            <a:off x="3135240" y="5084640"/>
            <a:ext cx="535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00"/>
                </a:solidFill>
                <a:latin typeface="Calibri"/>
              </a:rPr>
              <a:t>Manuális és automata mérőhálózat üzemeltetése</a:t>
            </a:r>
            <a:r>
              <a:rPr b="0" i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4"/>
          <p:cNvSpPr/>
          <p:nvPr/>
        </p:nvSpPr>
        <p:spPr>
          <a:xfrm>
            <a:off x="5003640" y="5950080"/>
            <a:ext cx="350388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66"/>
                </a:solidFill>
                <a:latin typeface="Comic Sans MS"/>
              </a:rPr>
              <a:t>Manuális mérőháló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5"/>
          <p:cNvSpPr/>
          <p:nvPr/>
        </p:nvSpPr>
        <p:spPr>
          <a:xfrm>
            <a:off x="250920" y="5950080"/>
            <a:ext cx="38163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000066"/>
                </a:solidFill>
                <a:latin typeface="Comic Sans MS"/>
              </a:rPr>
              <a:t>Automata mérőhálóz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>
            <a:off x="1692360" y="494172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1692360" y="551664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>
            <a:off x="6227640" y="55166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028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66"/>
                </a:solidFill>
                <a:latin typeface="Calibri"/>
              </a:rPr>
              <a:t>Országos Légszennyezettségi Mérőhálózat (OLM) felépít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artalom helye 2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Tartalom helye 4" descr=""/>
          <p:cNvPicPr/>
          <p:nvPr/>
        </p:nvPicPr>
        <p:blipFill>
          <a:blip r:embed="rId1"/>
          <a:stretch/>
        </p:blipFill>
        <p:spPr>
          <a:xfrm>
            <a:off x="1082520" y="1600200"/>
            <a:ext cx="6978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z SH/3/9 számú projekt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bemutatása</a:t>
            </a:r>
            <a:br>
              <a:rPr sz="2800"/>
            </a:b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„Az Országos Légszennyezettség Mérőhálózat (OLM) és laboratóriumi háttér továbbfejlesztése”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71280" y="1484280"/>
            <a:ext cx="705636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Calibri"/>
              </a:rPr>
              <a:t>STRATÉGIAI CÉ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99640" y="2491920"/>
            <a:ext cx="7404120" cy="37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evegő minősége az ország minden településén feleljen meg az egészségügyi határértékekne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nem szennyezett területeken meg kell őrizni a levegő jó állapotá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A Svájci Projekt célja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210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evegőtisztaság-védelmi intézkedések megalapozását biztosító mérőhálózat megteremtése, ill. továbbfejleszté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Országos Légszennyezettségi Mérőhálózat mennyiségi és minőségi továbbfejleszté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aboratóriumi háttér fejlesztése, a jogszabályok által előírt követelményeknek való megfelelés érdekében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érő- és mintavevő készülékek beszerzése az európai szabványok szerinti referencia vizsgálati módszerek és minőségellenőrzési követelmények betartásár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szennyezőanyagok vizsgálati körének bővítésér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értékelő rendszer fejlesztésér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 projekttel elérni kívánt eredmény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2105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1. Manuális mérőhálózat fejlesztése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intavevők beszerzése: gázalakú komponensek (NO2 és SO2) és porminták (PM 10, PM 2,5) készítésé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Nagyhatékonyságú laboratóriumi mérőműszerek beszerzése a toxikus fémek és és PAH vegyületek vizsgálatá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2. Mobil mérőállomások beszerzés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O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 NO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Calibri"/>
              </a:rPr>
              <a:t>X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 O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, CO, aromás szénhidrogének, finom szemcséjű légszennyezők PM10 és PM 2,5 programozott, változó helyszíneken történő mérésére, önkormányzati és lakossági panaszügyek kivizsgálására, mobil mérési programok megvalósításá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 projekttel elérni kívánt eredmény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8210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3. A levegőminőségi adatbázis bővítés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és a lakossági tájékoztatás színvonalának javítása érdekéb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4. Nyilvánosság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a lakosság tájékoztatása a pályázat célkitűzésiről és eredményeiről (honlap, kiadvány, sajtóközlemény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16000" y="959400"/>
            <a:ext cx="7128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6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50920" y="1700280"/>
          <a:ext cx="8640720" cy="4479840"/>
        </p:xfrm>
        <a:graphic>
          <a:graphicData uri="http://schemas.openxmlformats.org/drawingml/2006/table">
            <a:tbl>
              <a:tblPr/>
              <a:tblGrid>
                <a:gridCol w="1525320"/>
                <a:gridCol w="1067040"/>
                <a:gridCol w="1008000"/>
                <a:gridCol w="1008000"/>
                <a:gridCol w="647640"/>
                <a:gridCol w="647640"/>
                <a:gridCol w="865440"/>
                <a:gridCol w="934920"/>
                <a:gridCol w="936720"/>
              </a:tblGrid>
              <a:tr h="158436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elügyelősé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lektronikus analitikai mérle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0,01 mg skálabon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on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romatográ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utomata fotomé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C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C-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Extrak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áz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tavev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or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tavevő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b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222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DV KTVF Budape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35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ÉD KTVF Győ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52848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D KTVF Székesfehérvá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2635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D KTVF Pé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39996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ÉM KTVF Misko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0032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T KTVF Debrec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6d9f1"/>
                    </a:solidFill>
                  </a:tcPr>
                </a:tc>
              </a:tr>
              <a:tr h="26676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T KTVF Szeg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350640"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Összes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8080" rIns="2808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8080" marR="28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 hatások értékelése, indikátor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763280" y="2276640"/>
            <a:ext cx="6986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érési terület növeked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érőpontok számának növeked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érések számának növeked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Vizsgált komponensek növekedé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Projekt költségveté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0920" y="2491920"/>
            <a:ext cx="77058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Összes költség:         6 765 000 CHF       1.434.788.850 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Támogatás összege: 5 750 250 CHF       1.219.570.523 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Önrész: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         1 014 750 CHF       215.218.328 F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jekt tevékenysége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21052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érő- és mintavevő készülékek beszerzése az európai szabványok szerinti referencia vizsgálati módszerek és minőségellenőrzési követelmények betartására, a szennyezőanyagok vizsgálati körének bővítésére, valamint az értékelő rendszer fejlesztésér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Beszerzés lebonyolítása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önyvvizsgálat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inőségbiztosítá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Projekt előrehaladásával kapcsolatos pénzügyi jelentések készítése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Átadás-átvétel, dokumentálás, elszámolás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Projektmenedzsment: külső szakértő bevonásáv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Ütemez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9280" y="2491920"/>
            <a:ext cx="821052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projekt kezdés: 2011. március 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projekt zárás: 2014. október 31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(a 2012. június 12-én aláírt módosított Végrehajtási Megállapodás alapján)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1285560"/>
            <a:ext cx="7704000" cy="41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  <a:ea typeface="Arial"/>
              </a:rPr>
              <a:t>OLM KEOP Projekt - Az Országos Légszennyezettségi Mérőhálózat továbbfejlesztése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zövegdoboz 2"/>
          <p:cNvSpPr/>
          <p:nvPr/>
        </p:nvSpPr>
        <p:spPr>
          <a:xfrm>
            <a:off x="900000" y="1700280"/>
            <a:ext cx="7559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Cél: A projekt az OLM Automata Mérőhálózatának fejlesztésére irányul. Célja a legrégebbi, legrosszabb állapotban levő mérőműszereket cseréje és az adatgyűjtő és adatfeldolgozó rendszert egységesí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projekt keretében megvalósuló fejlesztések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mérőállomások elavult műszereinek cseréj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két új mobil mérőállomás beszerzése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egységes kommunikációs hálózat kiépítése a mérőállomások és az alközpontok közöt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mérőállomások, az alközpontok és a központ hardverének és szoftverének egységesítésre és korszerűsítésre kerü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távfelügyeleti rendszer olyan irányú korszerűsítés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Megítélt támogatási összeg: 1.132 Mrd Ft (támogatási arány: 100%-os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A projekt jelenlegi állása: a pályázat támogatásáról 2012. december 17.-én született döntés, jelenleg a támogatási szerződés előkészítése van folyamat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042920" y="1268280"/>
            <a:ext cx="734544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alibri"/>
                <a:ea typeface="Arial"/>
              </a:rPr>
              <a:t>A projektek összefoglalás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2214720"/>
            <a:ext cx="740736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Calibri"/>
                <a:ea typeface="Arial"/>
              </a:rPr>
              <a:t>Pénzügyi mutató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Svájci hozzájárulás: 1.434 Mrd Ft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KEOP: 1.132 Mrd Ft 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Calibri"/>
                <a:ea typeface="Arial"/>
              </a:rPr>
              <a:t>Támogatott tevékenységek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Műszerbeszerz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Mobil mérőállomások beszerzé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Hálózatfejleszté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1" i="1" lang="hu-HU" sz="1800" spc="-1" strike="noStrike">
                <a:solidFill>
                  <a:srgbClr val="000000"/>
                </a:solidFill>
                <a:latin typeface="Calibri"/>
                <a:ea typeface="Arial"/>
              </a:rPr>
              <a:t>Ütemezés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Várhatóan 2014-i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00000" y="1557360"/>
            <a:ext cx="770904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levegővédelmi szabályozás alapelvei</a:t>
            </a:r>
            <a:r>
              <a:rPr b="0" lang="hu-HU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4000" y="2637000"/>
            <a:ext cx="78102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Az elővigyázatosság, a megelőzés, helyreállítá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A felelősség (kárfelelősség, szennyező fize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Az együttműköd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- Tájékoztatás, tájékozódás és nyilvánoss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826920" y="2491920"/>
            <a:ext cx="756144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99640" y="2060280"/>
            <a:ext cx="727236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  <a:ea typeface="Arial"/>
              </a:rPr>
              <a:t>A levegőminőség javítást érintő fejlesztési igények a következő többéves költségvetési időszakban (2014-2020)</a:t>
            </a:r>
            <a:br>
              <a:rPr sz="16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Szövegdoboz 6"/>
          <p:cNvSpPr/>
          <p:nvPr/>
        </p:nvSpPr>
        <p:spPr>
          <a:xfrm>
            <a:off x="468360" y="1484280"/>
            <a:ext cx="8207280" cy="42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Az Országos Légszennyezettségi Mérőhálózat fejlesz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Régiók és települések levegőszennyezettség forrásösszetételének meghatár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Használt ózonkárosító anyagok (ODS) visszagyűjtése és ártalmatlaní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</a:rPr>
              <a:t>Légszennyező anyagok kibocsátási leltárának és előrejelzésének fejlesz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acsony emissziós övezetek (LEZ) létrehoz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Kisméretű szálló por (PM10) csökkentési programmal összefüggő népszerűsítő kampányok szervezése, tudatformálást elősegítő akciók, kiadványok készíté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rszágos, regionális, települési térinformatikai alapú, légszennyezettségi modell kidolgozása, kibocsátási adatokkal történő ellátá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1258560" y="4149720"/>
            <a:ext cx="6832440" cy="85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Köszönöm megtisztelő figyelmüket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10920" y="1196640"/>
            <a:ext cx="8343720" cy="81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szabályozás eszköze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755640" y="2060280"/>
            <a:ext cx="773424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légszennyezettségi határértékek, célértékek és küszöbértéke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ibocsátási határértéke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datszolgáltatás, ellenőrzé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bírságok, díja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szennyezettség csökkentési intézkedési tervek végrehajtás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légszennyezettség ellenőrzése, értékelése (visszacsatolás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71280" y="1341360"/>
            <a:ext cx="7708680" cy="108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kibocsátásokra vonatkozó fő szabál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971280" y="2781360"/>
            <a:ext cx="7708680" cy="51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kibocsátási határértékeket a technika mindenkori szintjének megfelelően kell megállapítani (BAT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kibocsátási határértékkel nem szabályozható technológiáknak (diffúz források) a BAT az elérendő követelmény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mennyiben a környezetvédelmi előírások nem teljesülnek, a környezetvédelmi hatóság a létesítmény működését nem engedélyezi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55280" y="1413000"/>
            <a:ext cx="8217000" cy="109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 levegővédelmi szabályozás szerkeze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55280" y="2492280"/>
            <a:ext cx="7783560" cy="52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1995. évi LIII. Törvény a környezet védelméről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Kormányrendelet a levegő védelméről [306/2010(XII.23.)] keret szabályo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végrehajtást biztosító miniszteri rendeletek (pl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evegőterheltségi szint és kibocsátási határértékekr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ő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 szóló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4/2011.(I.14.)VM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 [14/2001. (V. 9.) Köm-EüM-FVM együttes]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rendelet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légszennyezés és levegőterheltségi szint vizsgálatáról szóló 6/2011.(I.14.)VM rendelet</a:t>
            </a:r>
            <a:r>
              <a:rPr b="0" i="1" lang="hu-HU" sz="24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87280" y="1700280"/>
            <a:ext cx="718848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Általános szabályo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6920" y="3141720"/>
            <a:ext cx="7988400" cy="314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lapszabály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: Tilos a légszennyezés valamint a levegő lakosságot zavaró bűzzel való terhelése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Légszennyező forrásokra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→ levegővédelmi követelmények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A levegővédelmi követelmények teljesülését a légszennyező forrás hatásterületén biztosítani kell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42560" y="1989000"/>
            <a:ext cx="768204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zankciórendsz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71640" y="3284640"/>
            <a:ext cx="7935840" cy="27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 határérték feletti szennyezést okozó tevékenységet korlátozzák, felfüggesztik vagy megtiltják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az eseti légszennyezésre 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→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levegővédelmi bírsá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  <a:ea typeface="Arial"/>
              </a:rPr>
              <a:t>Mértéke a mulasztás körülményei, kötelezettségszegés súlyossága, kötelezettségszegés ismétlődése, időtartamától füg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400" y="1341000"/>
            <a:ext cx="871524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Az EU levegővédelmi kerete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26560" y="2492280"/>
            <a:ext cx="7620120" cy="390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Irányelv a levegő védelméről (2008/50/EK)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meghatározza a levegőminőségi előírásokat, beleértve az immissziós határértékeket, nemzeti monitoring követelmények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A nemzeti összkibocsátási határértékekről szóló irányelv (2001/81/EK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felülvizsgálata folyamatban v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000000"/>
                </a:solidFill>
                <a:uFillTx/>
                <a:latin typeface="Calibri"/>
              </a:rPr>
              <a:t>Ipari kibocsátásokról szóló 2010/75/EU irányel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13:49:13Z</dcterms:created>
  <dc:creator>Kori</dc:creator>
  <dc:description/>
  <dc:language>en-US</dc:language>
  <cp:lastModifiedBy>OrbanH</cp:lastModifiedBy>
  <dcterms:modified xsi:type="dcterms:W3CDTF">2013-04-16T08:01:30Z</dcterms:modified>
  <cp:revision>228</cp:revision>
  <dc:subject/>
  <dc:title>Slide 1</dc:title>
</cp:coreProperties>
</file>