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3F1-F9E5-4343-9E6E-BAA7258F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6A6-3A8A-4546-AC65-5B86A2F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C03-5D4E-4DAF-A303-DA8E7296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4BF-3975-4FE3-8D43-FE470030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D70-5EED-4ABC-9DB9-5C13E06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A68-31B7-40B3-9E30-3C8FFED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FFC-1722-4CB5-AB6A-C3B4C85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31E-1C32-4B26-BAB4-616F032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8CC-CB05-4F95-8618-660B4FB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BB1-7556-4621-A971-0DDD172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845-A217-47DB-B07E-1091FAF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39B-339B-4D8D-B6F9-4EE23B6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839-007E-4E10-A023-49939B214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70c0"/>
                </a:solidFill>
                <a:latin typeface="Calibri"/>
              </a:rPr>
              <a:t>Hazai biogáz termelé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Biometán hajtású jármű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Közép-Kelet Európa első és egyetlen biogáz termelő létesítmén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Tulajdonos\Desktop\zalavíz0.jpg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Szennyvíziszapból nyerhető biogáz</a:t>
            </a:r>
            <a:br>
              <a:rPr sz="3600"/>
            </a:b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Zalavíz Zr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Users\Tulajdonos\Desktop\Zalavíz2.jpg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Helyi termelésű bio-metánnal hajtott  busz Zalaegersze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Tulajdonos\Desktop\ZV.jpg"/>
          <p:cNvPicPr/>
          <p:nvPr/>
        </p:nvPicPr>
        <p:blipFill>
          <a:blip r:embed="rId1"/>
          <a:stretch/>
        </p:blipFill>
        <p:spPr>
          <a:xfrm>
            <a:off x="900000" y="1557360"/>
            <a:ext cx="74581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Előnyö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A létesítmény várható megtérülési ideje 7-8 é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A sűrített földgáznál környezetkímélőbb üzemany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Megújuló ener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A dízelolajnál olcsóbb á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Hátrány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6 év előkészítés-épí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Magas beruházási költség, 13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Egyenetlen, szakaszos terme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Kis mennyiségű – 12 személyautó és 2-3 busz részére elegendő – biogáz terme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A kitermelt biogáz sziloxent tartalmaz, ami súlyosan károsítja a belsőégésű motoro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70c0"/>
                </a:solidFill>
                <a:latin typeface="Calibri"/>
              </a:rPr>
              <a:t>Szükség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IG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Környezetünk védelme egyben létünk védelme, ami pénzben, gazdaságosságban nem értékelhet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Calibri"/>
              </a:rPr>
              <a:t>Ez a kötelességünk önmagunkkal és környezetünkkel szemben…és ez sokszor nem pénz, hanem a józan emberi ész és a törődés függvénye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hu-HU" sz="3200" spc="-1" strike="noStrike">
                <a:solidFill>
                  <a:srgbClr val="0070c0"/>
                </a:solidFill>
                <a:latin typeface="Calibri"/>
              </a:rPr>
              <a:t>Köszönöm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2:47:06Z</dcterms:created>
  <dc:creator>Tulajdonos</dc:creator>
  <dc:description/>
  <dc:language>en-US</dc:language>
  <cp:lastModifiedBy>meszaros.imre</cp:lastModifiedBy>
  <dcterms:modified xsi:type="dcterms:W3CDTF">2013-06-25T09:32:55Z</dcterms:modified>
  <cp:revision>123</cp:revision>
  <dc:subject/>
  <dc:title>Hazai metán hajtású járművek</dc:title>
</cp:coreProperties>
</file>