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0E5-9ECC-4F07-8285-EAB79BE6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282-A6FE-4180-9492-B4788835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677-A10C-4E0E-801A-8CC9907F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6E09-674F-4047-A33E-141BBC7E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377E-8982-4F12-874D-DE33C3CC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F50-D3DF-4D5F-B705-B11FFA1B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F281-79A7-41C5-952B-85C0C130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3A7C-210C-4932-88A5-55D9F844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B8B-7BBC-42C8-98A1-D8CD0804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078-3416-4F96-89C3-BFF45045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995D-3060-474A-AC1E-8010135F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539-D82D-4771-9C0C-4E2EC17E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D780-616C-4C5C-8735-AF92F3D6A4D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Európai Autómentes Nap 2012. Dévaván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ÖTLETEK – ADOMÁNYGYŰJTÉS – MEGVALÓSUL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ASZFALTRAJ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Kép helye 4" descr="Aszfaltrajz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A PARK KÖZEPÉ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Kép helye 4" descr="Kicsik a tér közepén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SEGÍTSÉGG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Kép helye 4" descr="El kéll a segítség.jpg"/>
          <p:cNvPicPr/>
          <p:nvPr/>
        </p:nvPicPr>
        <p:blipFill>
          <a:blip r:embed="rId1"/>
          <a:srcRect l="0" t="21839" r="0" b="2183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ÖLCSI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Kép helye 4" descr="Segítség nélkül még nem megy.jpg"/>
          <p:cNvPicPr/>
          <p:nvPr/>
        </p:nvPicPr>
        <p:blipFill>
          <a:blip r:embed="rId1"/>
          <a:srcRect l="0" t="21839" r="0" b="2183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ELEFÁNTLÁ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Kép helye 4" descr="Elefántláb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GÓLYALÁ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Kép helye 4" descr="Gólyaláb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KICSIK ÖRÖ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Kép helye 4" descr="Kicsik öröme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HORDÓS JÁTÉ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Kép helye 4" descr="Hordón ülve.jpg"/>
          <p:cNvPicPr/>
          <p:nvPr/>
        </p:nvPicPr>
        <p:blipFill>
          <a:blip r:embed="rId1"/>
          <a:srcRect l="0" t="21839" r="0" b="2183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LOVASFOGAT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Kép helye 4" descr="Lovasfogat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CSOCS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Kép helye 4" descr="Csocsó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TETTRE KÉS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KARTA ALÁÍRÁSA – KÉPVISELŐ-TESTÜLETI DÖNT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ISMÉT A KÖZALAPÍTVÁNY MUNKATÁRSAIÉ A FELAD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ÖTLETBÖRZE – PROGRAMTERVEZET, KÖLTSÉGVETÉS TERV ELKÉSZ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DOMÁNYGYŰJTÉS – VÁLLALKOZÓK, VÁLLALKOZÁSOK MEGKERESÉ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EGBESZÉLÉS – MEDDIG JUTOTTUNK, VÉGLEGESÍT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FELAJÁNLÁSOK BEGYŰJTÉSE, ILL. A SZÜKSÉGES ANYAGOK BESZERZ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ÉS SZEPTEMBER 21-ÉT ÍRU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SZEKÉ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Kép helye 4" descr="Szekér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SZŰR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Kép helye 4" descr="bátor férfi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ELSŐSEGÉ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Kép helye 4" descr="Elsősegély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SISAK PRÓ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Kép helye 4" descr="Sisak próba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SALÁTA VÁ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Kép helye 4" descr="Saláta vár.jpg"/>
          <p:cNvPicPr/>
          <p:nvPr/>
        </p:nvPicPr>
        <p:blipFill>
          <a:blip r:embed="rId1"/>
          <a:srcRect l="0" t="21839" r="0" b="2183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KÉSZÜL A ZSÍROS DESZ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Kép helye 4" descr="Zsíros kenyér készül 2.jpg"/>
          <p:cNvPicPr/>
          <p:nvPr/>
        </p:nvPicPr>
        <p:blipFill>
          <a:blip r:embed="rId1"/>
          <a:srcRect l="0" t="21839" r="0" b="2183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IDULÁS ELŐTT – „III. GURUL VÁNYA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Kép helye 4" descr="Sorakozó III. Gurul Ványa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STARTV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Kép helye 6" descr="Tiszta levegőt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EÉRKEZÉS UTÁ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Kép helye 4" descr="Beérkezés után.jpg"/>
          <p:cNvPicPr/>
          <p:nvPr/>
        </p:nvPicPr>
        <p:blipFill>
          <a:blip r:embed="rId1"/>
          <a:srcRect l="5533" t="0" r="5533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TALÁLKOZUNK 2013-BAN IS,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MI MÁR KÉSZÜLÜNK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A KEZD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Kép helye 6" descr="üres pénztárca.jpg"/>
          <p:cNvPicPr/>
          <p:nvPr/>
        </p:nvPicPr>
        <p:blipFill>
          <a:blip r:embed="rId1"/>
          <a:srcRect l="5634" t="0" r="5634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Kép helye 4" descr="üres pénztárca.jpg"/>
          <p:cNvPicPr/>
          <p:nvPr/>
        </p:nvPicPr>
        <p:blipFill>
          <a:blip r:embed="rId1"/>
          <a:srcRect l="5634" t="0" r="5634" b="0"/>
          <a:stretch/>
        </p:blipFill>
        <p:spPr>
          <a:xfrm>
            <a:off x="755640" y="612720"/>
            <a:ext cx="720108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KIPAKOL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Kép helye 4" descr="Kipakolás 2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TOTÓ KITÖLTÉ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Kép helye 4" descr="Környezetvédelmi totó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ALMÁT MINDENKIN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Kép helye 4" descr="Almák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MUNKÁBAN AZ OVIS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Kép helye 4" descr="Feladat megoldók.jpg"/>
          <p:cNvPicPr/>
          <p:nvPr/>
        </p:nvPicPr>
        <p:blipFill>
          <a:blip r:embed="rId1"/>
          <a:srcRect l="0" t="21839" r="0" b="2183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Kép helye 4" descr="Regisztráció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ÉLŐKÉ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Kép helye 4" descr="Élőkép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0:26:55Z</dcterms:created>
  <dc:creator>WinXP4ever</dc:creator>
  <dc:description/>
  <dc:language>en-US</dc:language>
  <cp:lastModifiedBy>meszaros.imre</cp:lastModifiedBy>
  <dcterms:modified xsi:type="dcterms:W3CDTF">2012-12-12T17:23:14Z</dcterms:modified>
  <cp:revision>14</cp:revision>
  <dc:subject/>
  <dc:title>Európai Autómentes Nap 2012. Dévaványa</dc:title>
</cp:coreProperties>
</file>