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9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20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21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D9F9-EBD2-4BE1-A6C4-1121F0FBFB81}" type="slidenum">
              <a:rPr b="0" lang="hu-H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Dia számának hely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9B6B-CBE8-45A1-9A3E-C0C30A2EC583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Dia számának hely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7FEB-2D2A-4C60-B7CE-4F1C2A334C2F}" type="slidenum">
              <a:rPr b="0" lang="hu-HU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5DAA-6C01-4C43-B524-1929A3BA1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408E-09AC-425D-BA69-2DC19210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07EB-B866-4E7C-832A-AF56CB82F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CF2F-ADDC-43CD-A224-16158E87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54BA-4AFF-44A9-B633-94895A75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7FE0-2132-4D95-8E2C-9298570C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75BC-DDDF-43E7-920E-48A14286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A2F7-61FA-46EC-B941-337D2C22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029A-5D6E-425C-A162-107D8237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C7155-779B-4110-B389-A0DE6524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8CD7-3951-49DC-B9A0-2EBCC9F3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D8BA-73DD-407D-A6C8-9DA03483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69145-5DEA-4EDF-ADED-6743F9F9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EAC5-66E1-47E8-8107-B84A2B41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C656-FF95-463D-9AB6-E2F5AEFC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49CD-A365-4624-8AB1-FCB16B6C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0F77-19FF-4773-8824-8575D847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142C0-0689-4AC7-A5D2-26D05B7D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72A77-D3F3-44B4-B88F-2F73EB46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52E09-2F49-4E60-AE32-24F5735C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85C02-18BD-441F-95C1-61073D969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B1A2B-93CD-41BD-B434-EC70C56D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8A8-56BF-4BBD-B7B4-2FDEFC1F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439F9-1EA8-4C63-A66F-4EAED862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8B406-406B-46D0-9D7B-185F39AB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AF2A-0AA5-4897-BC4E-8647BB77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7939A-4781-437E-BC2E-F5B26CE4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949B5-E681-4478-B009-9248F034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85607-3A8E-4E2D-8946-D69087AB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41DD-63F9-4BF7-84C7-96A264BC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F0D70-C106-4293-A4F4-B74F0A98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1323A-1999-43DF-B242-A0274B0F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1CF72-B931-43D8-A93B-8BFF7B85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A010-94E4-4FD0-9218-93A045A5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590FD-6CF4-485B-AA54-58A7F80E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40F19-F632-4641-BF72-F5B49756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DEB0F-3237-49B9-8539-E8F7F1FA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8EE27-6A78-47F5-A19D-D5B7574B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9C131-5D49-4E26-B6E7-3FFBFE72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C280D-5B3A-44B3-8C13-C949725D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401DC-C979-4955-A982-8F33B666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A14EB-48A3-43A9-9DEF-2B31777B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EB989-2DA9-48A4-A736-DABB4954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5FDB2-6FA5-4243-B018-4613CFC1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E78-F1CC-40E8-A37C-A271ABDF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EE4E8-6EA6-4045-8174-D0CA7611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D3884-5819-444C-A533-262AF97B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206F5-00AA-4B75-8936-1F300EAA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C550A-FCB5-4B97-ACD9-0B452528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F3227-CA30-4734-A102-BBC9E2C6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F1F2B-11C7-4B21-A892-18759289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65DF1-F145-4055-BDD7-8BCD1A8F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4F91B-9D4E-458D-BC49-843A0CE4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BA3F3-E8B7-41BB-9AF4-327827F9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C7CDA-DA1A-425E-8E1F-913179ED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462-6F62-4253-8BA5-80903C0A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6CF91-3B4C-4B91-8725-A22DE743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12F98-94B9-4ED3-A830-50AD7F34E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69E9E-DB11-4D84-A754-13EFE6FC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52CBF-7D11-4DE0-944B-1332F582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8BCCB-7258-4883-8233-6CB75B7C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A982A-8FE2-4062-8BFE-A84CFEF5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8B844-57A2-42A4-BC7C-FB5B4760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B9502-2010-4492-A61B-0C56A4DA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29806-432D-4452-A77E-FEC1B82E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E659B-EBE6-4306-88F4-26252ACE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A29C-E07E-43D9-9D6C-86C946EE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38484-0335-4EEE-B8CD-D3B73D45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49770-A3FC-4417-BBCC-0D3F9A33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AFFBE-500F-440E-B5AB-1B6DC0AE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5A8-1044-4388-AAB9-EBC74A56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0823-3C33-4752-9821-3AF27964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zabadkézi sokszög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zabadkézi sokszög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37339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FFE7-3C29-4910-BDCD-F126B3322197}" type="slidenum"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Picture 3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8" name="Szövegdoboz 10" descr=""/>
          <p:cNvPicPr/>
          <p:nvPr/>
        </p:nvPicPr>
        <p:blipFill>
          <a:blip r:embed="rId3"/>
          <a:stretch/>
        </p:blipFill>
        <p:spPr>
          <a:xfrm>
            <a:off x="8583480" y="1133640"/>
            <a:ext cx="560520" cy="483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zabadkézi sokszög 12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zabadkézi sokszög 13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2013.04.16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37339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Környezetmérnöki Intézet - Dr. Domokos End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224C-A4E9-4B0F-8B00-1E1846493443}" type="slidenum"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zabadkézi sokszög 12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Szabadkézi sokszög 13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2013.04.16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37339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Környezetmérnöki Intézet - Dr. Domokos End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43F1-9FA8-4A00-8833-254464C6B1C5}" type="slidenum"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37339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7C7D-B20B-4C38-8FA5-710BEEC85C00}" type="slidenum"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zabadkézi sokszög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Szabadkézi sokszög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19240"/>
          </a:xfrm>
          <a:prstGeom prst="rect">
            <a:avLst/>
          </a:prstGeom>
          <a:ln w="0">
            <a:noFill/>
          </a:ln>
        </p:spPr>
      </p:pic>
      <p:pic>
        <p:nvPicPr>
          <p:cNvPr id="175" name="Szövegdoboz 10" descr=""/>
          <p:cNvPicPr/>
          <p:nvPr/>
        </p:nvPicPr>
        <p:blipFill>
          <a:blip r:embed="rId3"/>
          <a:stretch/>
        </p:blipFill>
        <p:spPr>
          <a:xfrm>
            <a:off x="8583480" y="1133640"/>
            <a:ext cx="560520" cy="4833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37339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2F48-8FD5-439D-96D4-195EA25F7154}" type="slidenum"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37339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EB88-7764-47A9-AB95-C180A6DD4AE4}" type="slidenum">
              <a:rPr b="0" lang="hu-H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Cím 1" descr=""/>
          <p:cNvPicPr/>
          <p:nvPr/>
        </p:nvPicPr>
        <p:blipFill>
          <a:blip r:embed="rId1"/>
          <a:stretch/>
        </p:blipFill>
        <p:spPr>
          <a:xfrm>
            <a:off x="0" y="3230640"/>
            <a:ext cx="9144000" cy="23349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2463480" y="2732040"/>
            <a:ext cx="4235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Arial"/>
              </a:rPr>
              <a:t>Dr. Domokos End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zövegdoboz 3"/>
          <p:cNvSpPr/>
          <p:nvPr/>
        </p:nvSpPr>
        <p:spPr>
          <a:xfrm>
            <a:off x="2696040" y="5673600"/>
            <a:ext cx="416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iszta levegő –Mozdulj érte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XII. Európai Mobilitási Hét előkészítő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eszprém, 2013. április 16-1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Kép 6" descr="NFM_színes_logo-cmyk1"/>
          <p:cNvPicPr/>
          <p:nvPr/>
        </p:nvPicPr>
        <p:blipFill>
          <a:blip r:embed="rId2"/>
          <a:stretch/>
        </p:blipFill>
        <p:spPr>
          <a:xfrm>
            <a:off x="426960" y="401760"/>
            <a:ext cx="2035080" cy="1519200"/>
          </a:xfrm>
          <a:prstGeom prst="rect">
            <a:avLst/>
          </a:prstGeom>
          <a:ln w="0">
            <a:noFill/>
          </a:ln>
        </p:spPr>
      </p:pic>
      <p:pic>
        <p:nvPicPr>
          <p:cNvPr id="269" name="Kép 8" descr=""/>
          <p:cNvPicPr/>
          <p:nvPr/>
        </p:nvPicPr>
        <p:blipFill>
          <a:blip r:embed="rId3"/>
          <a:stretch/>
        </p:blipFill>
        <p:spPr>
          <a:xfrm>
            <a:off x="3633840" y="365040"/>
            <a:ext cx="2571840" cy="13478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4"/>
          <a:stretch/>
        </p:blipFill>
        <p:spPr>
          <a:xfrm>
            <a:off x="7380360" y="363600"/>
            <a:ext cx="150336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Cím 6" descr=""/>
          <p:cNvPicPr/>
          <p:nvPr/>
        </p:nvPicPr>
        <p:blipFill>
          <a:blip r:embed="rId1"/>
          <a:stretch/>
        </p:blipFill>
        <p:spPr>
          <a:xfrm>
            <a:off x="371520" y="3408480"/>
            <a:ext cx="6943680" cy="200484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85440" y="248580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élda 2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74FB-2BAD-4E0C-A574-D7BB95CF505B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7" name="Tartalom helye 6" descr=""/>
          <p:cNvPicPr/>
          <p:nvPr/>
        </p:nvPicPr>
        <p:blipFill>
          <a:blip r:embed="rId1"/>
          <a:stretch/>
        </p:blipFill>
        <p:spPr>
          <a:xfrm>
            <a:off x="-46080" y="0"/>
            <a:ext cx="9161640" cy="6600960"/>
          </a:xfrm>
          <a:prstGeom prst="rect">
            <a:avLst/>
          </a:prstGeom>
          <a:ln w="0">
            <a:noFill/>
          </a:ln>
        </p:spPr>
      </p:pic>
      <p:sp>
        <p:nvSpPr>
          <p:cNvPr id="318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9A60-D7AE-4EF3-9816-75DB0B1E2A15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2" name="Tartalom helye 8" descr=""/>
          <p:cNvPicPr/>
          <p:nvPr/>
        </p:nvPicPr>
        <p:blipFill>
          <a:blip r:embed="rId1"/>
          <a:stretch/>
        </p:blipFill>
        <p:spPr>
          <a:xfrm>
            <a:off x="-39600" y="0"/>
            <a:ext cx="9183600" cy="6622920"/>
          </a:xfrm>
          <a:prstGeom prst="rect">
            <a:avLst/>
          </a:prstGeom>
          <a:ln w="0">
            <a:noFill/>
          </a:ln>
        </p:spPr>
      </p:pic>
      <p:sp>
        <p:nvSpPr>
          <p:cNvPr id="323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EE0C-AD21-4E4A-9DC7-42802E56FB2B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Cím 6" descr=""/>
          <p:cNvPicPr/>
          <p:nvPr/>
        </p:nvPicPr>
        <p:blipFill>
          <a:blip r:embed="rId1"/>
          <a:stretch/>
        </p:blipFill>
        <p:spPr>
          <a:xfrm>
            <a:off x="371520" y="3408480"/>
            <a:ext cx="6943680" cy="20048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685440" y="248580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élda 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46EF-32D3-4BA5-837D-303B30E1EBE9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2" name="Tartalom helye 6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603840"/>
          </a:xfrm>
          <a:prstGeom prst="rect">
            <a:avLst/>
          </a:prstGeom>
          <a:ln w="0">
            <a:noFill/>
          </a:ln>
        </p:spPr>
      </p:pic>
      <p:sp>
        <p:nvSpPr>
          <p:cNvPr id="333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7409-9D04-42BC-ACE0-69BF699D9F68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7" name="Tartalom helye 6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603840"/>
          </a:xfrm>
          <a:prstGeom prst="rect">
            <a:avLst/>
          </a:prstGeom>
          <a:ln w="0">
            <a:noFill/>
          </a:ln>
        </p:spPr>
      </p:pic>
      <p:sp>
        <p:nvSpPr>
          <p:cNvPr id="338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BBB9-3083-403C-846A-347593EA884B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Cím 6" descr=""/>
          <p:cNvPicPr/>
          <p:nvPr/>
        </p:nvPicPr>
        <p:blipFill>
          <a:blip r:embed="rId1"/>
          <a:stretch/>
        </p:blipFill>
        <p:spPr>
          <a:xfrm>
            <a:off x="371520" y="3408480"/>
            <a:ext cx="6943680" cy="20048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85440" y="248580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5DD9-7C51-4C88-AE10-6507F35CB739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Franklin Gothic Book"/>
              </a:rPr>
              <a:t>A kőrforgalmas számítást méréssel is igazoltuk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BD15-81F9-46B9-9EAD-9E78B3E2F911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5" descr="C:\Users\KMI\Desktop\buszikapici.jpg"/>
          <p:cNvPicPr/>
          <p:nvPr/>
        </p:nvPicPr>
        <p:blipFill>
          <a:blip r:embed="rId1"/>
          <a:stretch/>
        </p:blipFill>
        <p:spPr>
          <a:xfrm>
            <a:off x="5392800" y="1596960"/>
            <a:ext cx="3066840" cy="49276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600200"/>
            <a:ext cx="493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Passzív és aktív mérőrendszere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Kép 1" descr=""/>
          <p:cNvPicPr/>
          <p:nvPr/>
        </p:nvPicPr>
        <p:blipFill>
          <a:blip r:embed="rId2"/>
          <a:stretch/>
        </p:blipFill>
        <p:spPr>
          <a:xfrm>
            <a:off x="826920" y="2924280"/>
            <a:ext cx="367380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Cím 8" descr=""/>
          <p:cNvPicPr/>
          <p:nvPr/>
        </p:nvPicPr>
        <p:blipFill>
          <a:blip r:embed="rId1"/>
          <a:stretch/>
        </p:blipFill>
        <p:spPr>
          <a:xfrm>
            <a:off x="-73080" y="2859120"/>
            <a:ext cx="9144000" cy="129852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0" y="397944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300" spc="-1" strike="noStrike">
                <a:solidFill>
                  <a:srgbClr val="ffffff"/>
                </a:solidFill>
                <a:latin typeface="Arial"/>
              </a:rPr>
              <a:t>Dr. Domokos Endr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annon Egye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érnöki K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örnyezetmérnöki Intéz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800080" cy="2737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3"/>
          <a:stretch/>
        </p:blipFill>
        <p:spPr>
          <a:xfrm>
            <a:off x="5867280" y="476280"/>
            <a:ext cx="320544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Franklin Gothic Book"/>
              </a:rPr>
              <a:t>Tartalom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Bevezeté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Példa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Zajszennyez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Szagszennyez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Légszennyez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Ellenőrzési lehetősége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2926-8780-4A84-B769-1DACA1B3A998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Cím 6" descr=""/>
          <p:cNvPicPr/>
          <p:nvPr/>
        </p:nvPicPr>
        <p:blipFill>
          <a:blip r:embed="rId1"/>
          <a:stretch/>
        </p:blipFill>
        <p:spPr>
          <a:xfrm>
            <a:off x="371520" y="3408480"/>
            <a:ext cx="6943680" cy="200484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85440" y="248580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21EF-04D5-4B22-B45A-647AE471C6A4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56840" y="1600200"/>
            <a:ext cx="7467480" cy="4525920"/>
          </a:xfrm>
          <a:prstGeom prst="rect">
            <a:avLst/>
          </a:prstGeom>
          <a:ln w="0">
            <a:noFill/>
          </a:ln>
        </p:spPr>
      </p:pic>
      <p:sp>
        <p:nvSpPr>
          <p:cNvPr id="283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E548-22D7-4DC4-B502-3969007A0729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5516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ffffff"/>
                </a:solidFill>
                <a:latin typeface="Franklin Gothic Book"/>
              </a:rPr>
              <a:t>Gázok tartózkodási ideje a légkör földközeli rétegeiben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8" name="Table 3" descr=""/>
          <p:cNvPicPr/>
          <p:nvPr/>
        </p:nvPicPr>
        <p:blipFill>
          <a:blip r:embed="rId1"/>
          <a:stretch/>
        </p:blipFill>
        <p:spPr>
          <a:xfrm>
            <a:off x="-66600" y="1122480"/>
            <a:ext cx="9277200" cy="5649840"/>
          </a:xfrm>
          <a:prstGeom prst="rect">
            <a:avLst/>
          </a:prstGeom>
          <a:ln w="0">
            <a:noFill/>
          </a:ln>
        </p:spPr>
      </p:pic>
      <p:sp>
        <p:nvSpPr>
          <p:cNvPr id="289" name="Dia számának helye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D1A6-DF9E-4EEB-A47A-407915B72DD4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Élőláb helye 5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Dátum helye 1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Franklin Gothic Book"/>
              </a:rPr>
              <a:t>A légszennyezés leggyakoribb mértékegységei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774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µg/m</a:t>
            </a:r>
            <a:r>
              <a:rPr b="0" lang="hu-HU" sz="30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hu-HU" sz="26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gramm légszennyező anyag /1 m</a:t>
            </a:r>
            <a:r>
              <a:rPr b="0" lang="hu-HU" sz="26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levegő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ppm = (parts per million)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1 mól (6x10</a:t>
            </a:r>
            <a:r>
              <a:rPr b="0" lang="hu-HU" sz="26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db) molekula /1 millió mól gá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"/>
              </a:rPr>
              <a:t>ppb = (parts per billio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1 mól (6x10</a:t>
            </a:r>
            <a:r>
              <a:rPr b="0" lang="hu-HU" sz="2600" spc="-1" strike="noStrike" baseline="30000">
                <a:solidFill>
                  <a:srgbClr val="ffffff"/>
                </a:solidFill>
                <a:latin typeface="Arial"/>
              </a:rPr>
              <a:t>23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 db) molekula /1 milliárd mól gá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Cím 6" descr=""/>
          <p:cNvPicPr/>
          <p:nvPr/>
        </p:nvPicPr>
        <p:blipFill>
          <a:blip r:embed="rId1"/>
          <a:stretch/>
        </p:blipFill>
        <p:spPr>
          <a:xfrm>
            <a:off x="371520" y="3408480"/>
            <a:ext cx="7169040" cy="20048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685440" y="248580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élda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140C-46C7-4164-8E4E-B2EEDF9E2371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8E85-3574-44B3-940A-4F0504B7C1AC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Kép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Dátum helye 3"/>
          <p:cNvSpPr/>
          <p:nvPr/>
        </p:nvSpPr>
        <p:spPr>
          <a:xfrm>
            <a:off x="45720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2013.04.16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Élőláb helye 4"/>
          <p:cNvSpPr/>
          <p:nvPr/>
        </p:nvSpPr>
        <p:spPr>
          <a:xfrm>
            <a:off x="3124080" y="6421320"/>
            <a:ext cx="373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9b9a98"/>
                </a:solidFill>
                <a:latin typeface="Arial"/>
              </a:rPr>
              <a:t>Környezetmérnöki Intézet - Dr. Domokos Endr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5F96-7312-4A84-913A-77DA2E03B1A8}" type="slidenum">
              <a:rPr b="0" lang="hu-H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Kép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7:14:43Z</dcterms:created>
  <dc:creator>Dr. Domokos Endre</dc:creator>
  <dc:description/>
  <dc:language>en-US</dc:language>
  <cp:lastModifiedBy>meszaros.imre</cp:lastModifiedBy>
  <cp:lastPrinted>2010-11-01T16:54:06Z</cp:lastPrinted>
  <dcterms:modified xsi:type="dcterms:W3CDTF">2013-06-25T07:59:35Z</dcterms:modified>
  <cp:revision>645</cp:revision>
  <dc:subject/>
  <dc:title>1. dia</dc:title>
</cp:coreProperties>
</file>