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5BFD-411C-4A7E-A30D-7C9E628BA940}" type="slidenum">
              <a:rPr b="0" lang="hu-H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D24-AF42-45BD-95DE-6BA055670655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8510-9F26-4547-B3CC-E998C7CA5C56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5FA-5326-4819-8753-E66E302C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216-04F8-49B7-B8F8-FAD2E95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BA3-D6FF-4B2C-A1AC-32ACED6B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23A-2D67-4808-8D62-C89EFBD6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52D0-7D04-4E99-8258-44B8EDB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85B-58AB-4FFD-897B-C5986EE2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669-7AC5-4FFF-9524-33204D0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4C3-C404-467A-9E4F-FD2C8F7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50F8-3804-49BC-AC50-6F0EA35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6A1A-A155-4641-8FAF-2EC86AD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E266-9127-47AC-A080-AE37074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D39-C6BA-40FB-8803-6660EAE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FACF-FD6C-4461-9D26-253BDCA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A7E2-728A-4B59-AB63-4C9F187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A46-B19D-4734-AB55-B086EC4C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6692-9C8B-4A6D-871A-0F1068B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D7F2-3020-486B-90FD-45C33C7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3774-A188-4798-9251-5DA2DB9A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1C6E-9E10-46EC-9DDF-AACB249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A828-C3A6-4F0D-BF32-D0CDD504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799C-5972-426C-80A9-C628BC8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12D1-BA5D-4BA1-B3B6-7F3DBFA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474-1BA8-4BE3-8CF5-5CF76FEB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A899-02BB-49DC-BEB1-FC6CF83F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C877-384E-4115-B997-DE26137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83E3-7CF4-4CFD-B4F7-CD9174B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97D0-169D-4B95-849C-87FDE7A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1BBD-D627-464E-AD04-ADA2EB99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5912-D940-40D0-820E-E02D1D16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B346-9D8A-4D9F-A112-67DD6452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C206-D76F-429A-8FAB-B32C6512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F503-45C8-4E8A-88C4-F17F5EA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7AD0-2D74-48BD-85A1-69057DF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A4D-0710-42E9-8D46-FC27E53B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C638-7D5D-4F9B-981F-4782CC32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2619-86A1-4498-B742-CDB1D533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02CC-5A7F-4EA3-8B18-F699032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ECDF-D905-46CB-BA2E-19A1C61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35E0-1F20-4FF4-8056-7FB3E9A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5D7C-638C-498B-84D8-3AF7D6EE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E20E-87DF-416B-825F-919BCD59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A2F6-6039-452B-932B-F37043B2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8C22-26EE-42A3-82C6-AFB3B590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2986-B4D7-403F-BBB6-8DB72D08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F9C-DA30-44C4-B6EB-5C76AA3F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D9D0-EB8E-45AA-906A-60A478CE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3D2B-0F01-415D-B07F-BAA0E14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1C09-37EF-4C12-A10E-3E651A5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7DD4-5CDA-4A23-8C60-2754324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A925-7FBC-45EB-8E7C-2182D9A8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E51E-47A4-40AA-8ED3-38C8FEA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48E7-0685-4DFE-A7B7-DB673BA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C0CE-338B-48FD-9B04-2F6D205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0C41-7BEC-4EB5-A280-D96F0FF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FECD-3442-4F81-938A-90659B8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12E-A4B6-4B46-A3E9-D59ACE49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C852-F3AC-4522-BED0-4654BE25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8540-6E89-4667-9B47-8600CBEA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FEC4-99F1-482D-AB8B-1ECA9032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293A-4B89-4DA8-B254-C410DDC0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1968-46FE-4F79-AA51-E9B470D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915F-D0BD-47A9-99B3-54B72D86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C402-17A5-47E9-AABF-31F2CA6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4B43-D2F8-44F4-A492-E650F8C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4781-438C-4D6E-8B7A-D2C204F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2F16-BDAD-4340-BDDC-A763EE4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BCF-8CF2-4758-B7FF-AEA1803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8380-ED61-4900-9D2C-DC81896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F108-387F-49F8-9D4D-6F2896E4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6DB0-D933-4784-A993-65A85C3F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812-8412-433E-9E46-A876547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2D7-0BF3-4E17-BB03-14937BE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zabadkézi sokszög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16CD-3CCC-43B1-95AB-03CDE26BD05D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3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8" name="Szövegdoboz 10" descr=""/>
          <p:cNvPicPr/>
          <p:nvPr/>
        </p:nvPicPr>
        <p:blipFill>
          <a:blip r:embed="rId3"/>
          <a:stretch/>
        </p:blipFill>
        <p:spPr>
          <a:xfrm>
            <a:off x="8583480" y="1133640"/>
            <a:ext cx="560520" cy="48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zabadkézi sokszög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zabadkézi sokszög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5958-F5E6-43F0-8A10-1E17B002F16D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zabadkézi sokszög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zabadkézi sokszög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852-F391-466E-B616-E70C9C9025BE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BF6-B192-4399-8017-A1E219295C30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zabadkézi sokszög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zabadkézi sokszög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75" name="Szövegdoboz 10" descr=""/>
          <p:cNvPicPr/>
          <p:nvPr/>
        </p:nvPicPr>
        <p:blipFill>
          <a:blip r:embed="rId3"/>
          <a:stretch/>
        </p:blipFill>
        <p:spPr>
          <a:xfrm>
            <a:off x="8583480" y="1133640"/>
            <a:ext cx="560520" cy="483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1FFF-6157-45A1-9CDB-8E20EA0891FE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57B-EC01-4D98-9144-7D94FAE8065E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ím 1" descr=""/>
          <p:cNvPicPr/>
          <p:nvPr/>
        </p:nvPicPr>
        <p:blipFill>
          <a:blip r:embed="rId1"/>
          <a:stretch/>
        </p:blipFill>
        <p:spPr>
          <a:xfrm>
            <a:off x="0" y="3230640"/>
            <a:ext cx="9144000" cy="2334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463480" y="2732040"/>
            <a:ext cx="4235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Dr. Domokos E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zövegdoboz 3"/>
          <p:cNvSpPr/>
          <p:nvPr/>
        </p:nvSpPr>
        <p:spPr>
          <a:xfrm>
            <a:off x="2696040" y="5673600"/>
            <a:ext cx="41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szta levegő –Mozdulj ért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XII. Európai Mobilitási Hét előkészí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szprém, 2013. április 16-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Kép 6" descr="NFM_színes_logo-cmyk1"/>
          <p:cNvPicPr/>
          <p:nvPr/>
        </p:nvPicPr>
        <p:blipFill>
          <a:blip r:embed="rId2"/>
          <a:stretch/>
        </p:blipFill>
        <p:spPr>
          <a:xfrm>
            <a:off x="426960" y="401760"/>
            <a:ext cx="2035080" cy="1519200"/>
          </a:xfrm>
          <a:prstGeom prst="rect">
            <a:avLst/>
          </a:prstGeom>
          <a:ln w="0">
            <a:noFill/>
          </a:ln>
        </p:spPr>
      </p:pic>
      <p:pic>
        <p:nvPicPr>
          <p:cNvPr id="269" name="Kép 8" descr=""/>
          <p:cNvPicPr/>
          <p:nvPr/>
        </p:nvPicPr>
        <p:blipFill>
          <a:blip r:embed="rId3"/>
          <a:stretch/>
        </p:blipFill>
        <p:spPr>
          <a:xfrm>
            <a:off x="3633840" y="365040"/>
            <a:ext cx="2571840" cy="1347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7380360" y="363600"/>
            <a:ext cx="15033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448-C3A6-4429-8D99-70FC5E39241A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7" name="Tartalom helye 6" descr=""/>
          <p:cNvPicPr/>
          <p:nvPr/>
        </p:nvPicPr>
        <p:blipFill>
          <a:blip r:embed="rId1"/>
          <a:stretch/>
        </p:blipFill>
        <p:spPr>
          <a:xfrm>
            <a:off x="-46080" y="0"/>
            <a:ext cx="9161640" cy="6600960"/>
          </a:xfrm>
          <a:prstGeom prst="rect">
            <a:avLst/>
          </a:prstGeom>
          <a:ln w="0">
            <a:noFill/>
          </a:ln>
        </p:spPr>
      </p:pic>
      <p:sp>
        <p:nvSpPr>
          <p:cNvPr id="31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7DC5-D199-47C3-AF00-E411E926F45C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Tartalom helye 8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622920"/>
          </a:xfrm>
          <a:prstGeom prst="rect">
            <a:avLst/>
          </a:prstGeom>
          <a:ln w="0">
            <a:noFill/>
          </a:ln>
        </p:spPr>
      </p:pic>
      <p:sp>
        <p:nvSpPr>
          <p:cNvPr id="32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D4CA-614C-4D09-8D5C-62BCF8DBE431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B47-A317-4E99-890D-3660836EC86F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2" name="Tartalom helye 6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603840"/>
          </a:xfrm>
          <a:prstGeom prst="rect">
            <a:avLst/>
          </a:prstGeom>
          <a:ln w="0">
            <a:noFill/>
          </a:ln>
        </p:spPr>
      </p:pic>
      <p:sp>
        <p:nvSpPr>
          <p:cNvPr id="33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FFD-7D75-440A-BFF1-C01CA5474ACD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Tartalom helye 6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603840"/>
          </a:xfrm>
          <a:prstGeom prst="rect">
            <a:avLst/>
          </a:prstGeom>
          <a:ln w="0">
            <a:noFill/>
          </a:ln>
        </p:spPr>
      </p:pic>
      <p:sp>
        <p:nvSpPr>
          <p:cNvPr id="33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DDA-B197-41DE-AECD-E1C6EE34EADB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ED41-FF6C-4617-B05E-76C3F7496580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Franklin Gothic Book"/>
              </a:rPr>
              <a:t>A kőrforgalmas számítást méréssel is igazoltu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4A8-8901-4ECF-909C-571156F1342D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C:\Users\KMI\Desktop\buszikapici.jpg"/>
          <p:cNvPicPr/>
          <p:nvPr/>
        </p:nvPicPr>
        <p:blipFill>
          <a:blip r:embed="rId1"/>
          <a:stretch/>
        </p:blipFill>
        <p:spPr>
          <a:xfrm>
            <a:off x="5392800" y="1596960"/>
            <a:ext cx="30668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600200"/>
            <a:ext cx="49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asszív és aktív mérőrendszer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Kép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6738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ím 8" descr=""/>
          <p:cNvPicPr/>
          <p:nvPr/>
        </p:nvPicPr>
        <p:blipFill>
          <a:blip r:embed="rId1"/>
          <a:stretch/>
        </p:blipFill>
        <p:spPr>
          <a:xfrm>
            <a:off x="-73080" y="2859120"/>
            <a:ext cx="9144000" cy="12985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39794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ffffff"/>
                </a:solidFill>
                <a:latin typeface="Arial"/>
              </a:rPr>
              <a:t>Dr. Domokos End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nnon Egye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nöki K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rnyezetmérnöki Inté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800080" cy="2737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32054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Franklin Gothic Book"/>
              </a:rPr>
              <a:t>Tartal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Bevezet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Zaj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ag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ég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lenőrzési lehetőség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28E-D157-4A64-91BE-185896647BD2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C53-58E6-4D3C-8AF2-0CAB2CAC3232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0A1-E259-4B1B-8D16-71D2725C0404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Franklin Gothic Book"/>
              </a:rPr>
              <a:t>Gázok tartózkodási ideje a légkör földközeli rétegeibe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Table 3" descr=""/>
          <p:cNvPicPr/>
          <p:nvPr/>
        </p:nvPicPr>
        <p:blipFill>
          <a:blip r:embed="rId1"/>
          <a:stretch/>
        </p:blipFill>
        <p:spPr>
          <a:xfrm>
            <a:off x="-66600" y="1122480"/>
            <a:ext cx="9277200" cy="5649840"/>
          </a:xfrm>
          <a:prstGeom prst="rect">
            <a:avLst/>
          </a:prstGeom>
          <a:ln w="0">
            <a:noFill/>
          </a:ln>
        </p:spPr>
      </p:pic>
      <p:sp>
        <p:nvSpPr>
          <p:cNvPr id="289" name="Dia számának helye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6CD-A73F-48F8-ACD3-F948F9352B78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Élőláb helye 5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Dátum helye 1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Franklin Gothic Book"/>
              </a:rPr>
              <a:t>A légszennyezés leggyakoribb mértékegységei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µg/m</a:t>
            </a:r>
            <a:r>
              <a:rPr b="0" lang="hu-HU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gramm légszennyező anyag /1 m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leveg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pm = (parts per million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 mól (6x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db) molekula /1 millió mól gá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pb = (parts per bill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 mól (6x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db) molekula /1 milliárd mól gá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7169040" cy="2004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74F-BD0C-427F-9DA4-B220107438F1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47C-A3E7-49F7-B056-AF21E93059A1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Kép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7A1E-FC9C-483D-A409-B5649FE19BC9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Kép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7:14:43Z</dcterms:created>
  <dc:creator>Dr. Domokos Endre</dc:creator>
  <dc:description/>
  <dc:language>en-US</dc:language>
  <cp:lastModifiedBy>meszaros.imre</cp:lastModifiedBy>
  <cp:lastPrinted>2010-11-01T16:54:06Z</cp:lastPrinted>
  <dcterms:modified xsi:type="dcterms:W3CDTF">2013-06-25T07:59:35Z</dcterms:modified>
  <cp:revision>645</cp:revision>
  <dc:subject/>
  <dc:title>1. dia</dc:title>
</cp:coreProperties>
</file>